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329E-0A47-4518-BCD7-B5AC521E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4A6-E1DC-4625-94BB-4985D0E1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7FC65-6DDB-4F6A-A0D2-3BDA3714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CA4A9-2FE6-44A3-8F05-8AEC2DE9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330E4-CE76-45B2-9283-EAE013AE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772C8-FB13-4EC0-BB3A-205D5CDF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F6931-1B8C-4B56-84C5-BDC0401F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9454F-878E-422A-80B6-3104B731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D9BFF-AEBD-48C6-AA99-B7766CAE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7349C-5160-4CB6-83DC-8F73F676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B000F-816A-4EEC-9799-6D237C77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C38AD-E582-4414-8449-9C6E2DCA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510-499B-422E-A5CF-A86485E0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8A29B-F58F-48FF-B925-922FFDE6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D6924-8342-4C18-A841-59B0EFAE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41ECA-B3F5-42E3-A153-CA5FFB13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510BE-1D01-4E38-9070-1BF8891C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AF32C-603D-446D-83B6-D6E47F63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D808E-D9F5-4EAC-A938-4C4AC8C2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DD8BA-65DB-4F9C-BEC0-BC870034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39179-EFBB-459F-8B3E-CE0FE9A3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F9D4A-96DD-4D64-A6E3-E2C69510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13FF8-0F10-45D6-A68C-295EF963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9F5-D696-4CC4-BEAF-7C15213B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02A4E-B3DE-463D-8EAB-282AA54D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5AA18-F597-4634-8BE2-B3F77ABA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4B279-1E4F-4B0F-9FA7-011524C8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FBA3F-8E9B-4F5F-B0CE-4A6C0379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F08C1-1EB0-4124-833C-A69CC175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7B86F-3877-48BF-B7ED-7378AD50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992C8-B064-449E-B87E-72206700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FB9A4-9D87-4747-B1F6-9CF8FD10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24CA0-EFB8-4521-8F7F-65D4C634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BC4E6-754D-440E-8061-5762DC95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8134-5486-4FF0-96DA-338E4C2C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2D760-5260-4BC9-B823-32A5F7AF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ED978-E0F8-4D21-B444-81C34419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AEA18-189B-4AC6-B053-BD07F0F4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57EE0-1DD1-4C7F-9630-ECE88A3E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643E1-9B62-40C0-9B48-DEA7B21E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CB44B-9A6A-4B75-BE73-B7202CF6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B5CD6-2E3C-44C6-9BDF-A5251861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9F650-5BAB-4BA7-B3DC-01DF35D1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2AD48-25B4-49DB-AAE3-E6DC2C02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C8F05-A94B-42FC-82D5-400225B7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031A-05EF-4FAC-842F-10A198B3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4632D-E10C-48B0-A2AE-F6D4B810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04276-02F7-40E0-AA09-E404E643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729A9-C1F8-4A97-B7BA-6F46986C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88AE9-E8B2-43D6-A744-B5BF2DCE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8AD46-02D4-41FF-9B05-C35F1051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B7AD-6D64-49C8-8511-264D8516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4C59-9586-4A39-9AA3-C63FF082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57FB-BD12-43F8-A1C2-D8AD0217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5117-7086-4678-9951-3EB5D727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8E49-1109-4AE2-8CA7-D0BF378A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E1F-26DE-4396-BA27-C8DFAF83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22FC-38F5-41BF-82BB-DB01A3C4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7851-9E91-4375-B03A-CC9B02AA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15B8-7724-4976-910E-AA96C11D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D884-8318-4E6F-BBEF-C5782063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207C-F260-4F48-8C1A-E7FC8590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2FD7D-1A3A-4B8F-9487-02A1DF27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0F5A9-C41E-4B61-AA1D-1E4F8560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D3A16-A904-4202-9EA1-AFAE168F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EA176-FCE8-4BB2-BF20-1E73A1D2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6B867-ECB0-43AF-ACA6-BBDB423A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CEFF-2064-4331-838A-4AF84B61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7E886-E2DE-4BA1-A754-A0E5DE97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F3806-683B-42A5-8641-FE4AA39A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694D1-588F-43BF-A755-FE513893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7818E-3F2B-4362-81A9-FA5B4F95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82DDB-1AB2-4155-9E89-E143F8A3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00637-0B5A-443D-B45D-CC2F50BE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E8D2F-C0BA-4831-ABF4-08ECF165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F889D-45DC-4E3D-A563-AD85D8A3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FC9DF-4ADA-4F1F-8D98-7CA6CAE1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40D80-6ADA-470D-85E6-B8264378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4BDB-1175-45F2-8B4E-3C517B92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9A036-849F-4089-A4E4-19FA7538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E1D0A-4D57-444F-BF31-26039AF6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258E7-187D-45B5-8179-82E371BA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0E76B-2696-4F8F-953B-592C70D5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AF803-B837-485D-8E8B-445805B8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E7773-2D46-40E9-AC8D-776A2DF9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83377-CE01-477C-B655-3F588533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E958F-7868-41B6-A858-5371FF37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55C82-0E4F-4CC4-9C65-0E722B49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6424C-C0E1-485A-AF74-D5A5FD99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99D-CDAA-4FE2-98C5-8FD983A0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C49DA-5652-4897-B6FB-2C92EFF0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9FFAE-8D13-4F77-8873-08CC6B3F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E9E78-8CA7-4C9E-9D34-ECB7EFD9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71277-89AA-490A-A73B-35D9B966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C944A-69CF-4781-91F6-258C25F9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A0E75-ABFB-46D8-B3FD-F7F6F6CC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ED663-8D0E-4A10-99B7-0DB75147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2530E-2B6C-4894-A2E1-5A7EB6C5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F0D45-E65D-4FF6-931B-A9A96DCC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35598-F7CC-4907-8837-0289AFE7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977-6BF5-4E1D-B027-A6B4193C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1F751-6E67-4C2D-BCD6-7E1840C9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A81CB-9363-4FC6-AB41-A74102BA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DE715-A51A-4A22-BAB4-0D5BEBDA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DA353-15C2-4B35-B4E0-54177586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26C6A-8ACC-47D1-9D7B-13A0DAE7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0A2C9-209D-410B-9471-1C80620A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5775E-D5E6-4C2E-A787-80D0D80F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CD9B3-ED8C-4003-9DE6-2E640F58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219E0-7876-4477-AF2C-EAE54EA6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E0431-D3B4-4BAC-8405-D5550B7C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081-AC2D-4C65-B8A3-16AF276C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47ECF-9E0A-4906-8606-EE0E4359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44E8F-9221-4D80-9971-0DF6A912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030DC-6800-4A35-8DA0-2CE4985E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58976-8881-41AA-9C03-272CD0C7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25829-0F0F-4468-B80C-8AFEF322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A9FEA-29EA-4D4A-A481-9B58116C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47FE0-FCC8-4FB0-A821-EA94D371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8DF38-40B0-4A2D-BD26-B91C6AD1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74505-F57C-4DB4-93E6-4370B722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6198B-40E9-4FD8-BD72-89FD70C7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CCF-FE02-4380-AB9C-F6884D30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A404B-E6B0-4EA1-92D2-2A85606D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51E96-5C0F-471D-AC10-3C3F7086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BB617-01FA-4BFE-91AC-56748933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AC0C0-9F43-486E-82E5-3D08ADC8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A9500-9AEE-4A44-9EDC-61992C1F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7AB56-8840-4A02-AC75-F06FC492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6764A-24CC-4190-B7FF-E90D45AE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948AC-EB05-4AAF-B0EF-416231EF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54ABC-924F-46D0-BD28-83D1075C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A8296-7504-414C-87E9-5BA2770F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D1F-DEE4-442B-9FA8-B226856C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2B8DF-6FE0-4163-A08C-8AC14F97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A6933-59E1-4C3D-A9BB-08BC915B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68035-D5CD-46BE-8607-DBC23CE9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9F92B-569F-415F-A158-894F4344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D4607-BFDA-49A3-9F79-E0B1202E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49611-A1EA-4C86-ACB3-57881165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8DDBE-42EA-486B-8837-A4E10522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D20AB-EC68-4EEA-95BE-3F7DDE42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FCBC8-244F-41C7-A082-B85795CC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B34AF-1F60-4441-9755-AE5DE698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88FF-E4A2-443B-AA1C-62BC3D0288F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B594-C40C-4A19-AA85-ED1F1BFF85A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F0A5-D28A-4EAF-B5C9-A31B037DCEE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8EA3-3606-4568-925D-FE195658FB4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D42D-C0DA-4828-9A2D-2B570008EDB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BEA0-5B52-4DFE-ACC3-CB628781A85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E525-2C4E-4495-B22B-B2BA2D0D7B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79C1-635E-47C2-9C3B-37E981ABF0E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3E9D-D730-4F59-A9AC-FC0C5F6DC0C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B559-3BA7-41EB-B34D-26B61F79639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384C-3055-4F56-8CC0-CC520DA0DDD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2C4B-B400-4B5B-8D2D-1C35983EE6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30 Ja v Kristu život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v Kristu život m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tálej sily zdro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ach, úzkosť, staro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poz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pevný hrad je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dobrý Pastier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svoje ovce m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sýti ich, nad nimi bd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s láskou o ne db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ťažký čierny mrak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 visí nad hlav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upieram svoj viery zrak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k nebu s dôver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reto šťastný s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pasiteľa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mojím verným ochranc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nie som nikdy s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5:27:55Z</dcterms:modified>
  <cp:revision>22</cp:revision>
  <dc:subject/>
  <dc:title>Je veľký náš Pán, on slávy je Kráľ Nech do všetkých strán  spev vrúcnych znie chvál.</dc:title>
</cp:coreProperties>
</file>